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BC0-D4B8-49CB-BB8C-CC7C68D1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486-4564-48CF-9334-40FF6047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21C-DD80-4865-885E-63502BCC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CAA-3E99-4ABE-96CF-F6AEFF6B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4D5-65F0-4E49-A8A2-02609DF4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A6C-1EFD-4A4B-ABD9-1C6A9B88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62D-947E-4524-90BF-3B05A39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885-8860-4856-9A69-68FFDB56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8CF-7DE9-4FED-A86C-D3FD02EE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650-96BC-4FBA-A271-140968D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FA8-FC68-459D-AC6E-87FC400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18A-AD4C-4061-9FDE-D83E2C3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35A-4D8E-4F41-8CC7-CC70DFFB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65440" y="62485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CA2A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 the Structure of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y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2133720"/>
            <a:ext cx="59436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30481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5560" y="1295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1981080"/>
            <a:ext cx="61722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33526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CO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219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52480" y="2057400"/>
            <a:ext cx="586764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8380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8380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752120" y="2133720"/>
            <a:ext cx="586764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057400"/>
            <a:ext cx="586764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2362320"/>
            <a:ext cx="38124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648320" y="23623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2057400"/>
            <a:ext cx="586764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057400"/>
            <a:ext cx="243864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190760" y="2743200"/>
            <a:ext cx="342900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743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9144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9907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2057400"/>
            <a:ext cx="5867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9144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9907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2514600"/>
            <a:ext cx="5867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048120"/>
            <a:ext cx="5867280" cy="3047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523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1600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209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22860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8000" y="43434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057400"/>
            <a:ext cx="5867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9718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5040" y="121932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590920"/>
            <a:ext cx="556272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971800"/>
            <a:ext cx="525780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 rot="7126200">
            <a:off x="5458320" y="4268880"/>
            <a:ext cx="18280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4728800">
            <a:off x="2225160" y="4094280"/>
            <a:ext cx="1522800" cy="381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4290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31237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419720" y="31237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the Structure of the Army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556272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800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3526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19720" y="5335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3716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4382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51814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1371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51814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2670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4382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3526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3526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51814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3526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2670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25146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514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267080"/>
            <a:ext cx="609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2438280"/>
            <a:ext cx="609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4290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3434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43434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34290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4290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51055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7913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1814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8560" y="106668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286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22440" y="10666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8080" y="10666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9240" y="1066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0280" y="1128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1219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5238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6765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590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7432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5053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657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4197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5720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3341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864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362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2362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960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296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053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657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35812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3733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000" y="44956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6483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6400800"/>
            <a:ext cx="533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9960" y="160020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H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68920" y="274320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H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3429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5812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581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rot="2192400">
            <a:off x="6366240" y="4660200"/>
            <a:ext cx="106596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22" y="122"/>
                </a:moveTo>
                <a:arcTo wR="10800" hR="10800" stAng="-4881780" swAng="3601914"/>
                <a:lnTo>
                  <a:pt x="10800" y="10800"/>
                </a:lnTo>
                <a:close/>
              </a:path>
              <a:path fill="none" w="21600" h="21600">
                <a:moveTo>
                  <a:pt x="12422" y="122"/>
                </a:moveTo>
                <a:arcTo wR="10800" hR="10800" stAng="-4881780" swAng="360191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37920" y="1523880"/>
            <a:ext cx="3812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1523880"/>
            <a:ext cx="3812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25909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437920" y="25909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37920" y="35053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5053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19720"/>
            <a:ext cx="381240" cy="15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61960" y="426708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53341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53341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51814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S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886200" y="4419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44197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886200" y="4343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43434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4495680"/>
            <a:ext cx="1522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886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1523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555800">
            <a:off x="3875400" y="5050800"/>
            <a:ext cx="1519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972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72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885840" y="53341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038480" y="53337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486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480" y="594360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5877200">
            <a:off x="6790320" y="5932080"/>
            <a:ext cx="4593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5943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5943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657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523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4080" y="1066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7480" y="1066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924320" y="533412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24680" y="533412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46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990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066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773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tructure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y Div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the requirement to identify the organization, capabilities, imitations, personnel, and equipment requirements of an Army Divisio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to FM 71-100 and FM 101-5-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fined the unit and map symbology used in a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fined how a divison fights the Army air-land battle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fined the types of divisions in the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efined the units in a division’s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fined a heavy unit’s capabilities, limitations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efined a light unit division’s capabilities, limitations and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2133720"/>
            <a:ext cx="59436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5560" y="1295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3048120"/>
            <a:ext cx="32763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048120"/>
            <a:ext cx="32763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1143000"/>
            <a:ext cx="701064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514600"/>
            <a:ext cx="5257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590920"/>
            <a:ext cx="1447920" cy="167616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6:02:06Z</dcterms:created>
  <dc:creator>ADG</dc:creator>
  <dc:description/>
  <dc:language>en-US</dc:language>
  <cp:lastModifiedBy>Administrator</cp:lastModifiedBy>
  <cp:lastPrinted>1999-08-12T14:49:43Z</cp:lastPrinted>
  <dcterms:modified xsi:type="dcterms:W3CDTF">2005-08-10T15:20:45Z</dcterms:modified>
  <cp:revision>68</cp:revision>
  <dc:subject/>
  <dc:title>Review the Structure of the Army Divi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10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328626875</vt:r8>
  </property>
  <property fmtid="{D5CDD505-2E9C-101B-9397-08002B2CF9AE}" pid="23" name="_AuthorEmail">
    <vt:lpwstr>herbert.m.lenton@us.army.mil</vt:lpwstr>
  </property>
  <property fmtid="{D5CDD505-2E9C-101B-9397-08002B2CF9AE}" pid="24" name="_AuthorEmailDisplayName">
    <vt:lpwstr>Lenton, Herbert SFC</vt:lpwstr>
  </property>
  <property fmtid="{D5CDD505-2E9C-101B-9397-08002B2CF9AE}" pid="25" name="_EmailSubject">
    <vt:lpwstr>Revised Slides</vt:lpwstr>
  </property>
</Properties>
</file>